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8756-6818-4315-83C6-557F6095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D35-F16D-4DA8-8A25-FD7935F5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8A2-E936-4685-AA52-1B9D5218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23A1-2AF9-4426-8101-767CA345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FFA7-C3E6-4C3F-AE9E-8B7AB184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4A70-7A0C-49F6-BA0B-A697582C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DA22-6412-4054-ADAD-464259DD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2F6E-2526-439C-AAFA-52A0117A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2B17-8EB8-4D0E-8529-AC95B168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A5D7-6E3E-4CEE-8EFE-D77C871B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280B-9A9B-4302-B2A1-8FDAF312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02C-F877-4A72-B16D-F8A85E68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2554-076A-4D0F-B6AD-E6D7D805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CC2A-CA1E-41D7-8840-044252EA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65C6-8D7F-4FD7-A338-3A609F1D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E7EC-5252-4E56-B53D-5CB282AB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6E88-702F-437C-AF12-DD2D9322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999-DDB8-4B15-B3BB-08811BBF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DD3-8AD7-4D7A-BB54-C6AC8674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561-1048-4C4D-9FAB-0898EBBC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559-EE3E-4FF6-9A0C-45C36A83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F17-98A9-40F7-A5FE-DAB82FB7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F02F-418D-4D64-909F-B95E37E2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09F-11D5-43B3-81EA-034969CD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7F92-75C9-42F2-8198-2D493BC4CB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9242-FEDD-48BC-9B65-8737968930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nppbillon.ru/images/e-mail.png" TargetMode="External"/><Relationship Id="rId3" Type="http://schemas.openxmlformats.org/officeDocument/2006/relationships/hyperlink" Target="http://inzider.ru/shownews/picture/big/101162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5388120"/>
            <a:ext cx="835812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14680" y="4571640"/>
            <a:ext cx="5643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с.Павловск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Алтайский край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nppbillon.ru/images/e-mail.png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inzider.ru/shownews/picture/big/101162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88" name="Picture 5" descr="d:\Мои документы\Мои рисунки\e-mail.png"/>
          <p:cNvPicPr/>
          <p:nvPr/>
        </p:nvPicPr>
        <p:blipFill>
          <a:blip r:embed="rId4"/>
          <a:stretch/>
        </p:blipFill>
        <p:spPr>
          <a:xfrm rot="20579400">
            <a:off x="717120" y="1217160"/>
            <a:ext cx="1171800" cy="1171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5"/>
          <a:stretch/>
        </p:blipFill>
        <p:spPr>
          <a:xfrm>
            <a:off x="571680" y="2857680"/>
            <a:ext cx="17380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8:46:18Z</dcterms:created>
  <dc:creator>Comp</dc:creator>
  <dc:description/>
  <dc:language>en-US</dc:language>
  <cp:lastModifiedBy>Comp</cp:lastModifiedBy>
  <dcterms:modified xsi:type="dcterms:W3CDTF">2011-07-27T08:51:37Z</dcterms:modified>
  <cp:revision>3</cp:revision>
  <dc:subject/>
  <dc:title>Слайд 1</dc:title>
</cp:coreProperties>
</file>